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E12-ADEC-4A7A-A16A-7A301B88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C56-9138-4912-9FF3-77B7099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B8F-876D-4C47-9E0C-58174EAB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3A7-D583-4859-BFAF-86C5891D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28B-FFDA-4C7B-9B6C-64A59C9C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856-922F-4962-AF20-8076214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5BC-0BAD-4638-952E-37AF7784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F16-067B-4699-8F6F-2DF7D7B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C47-BC2C-4777-BE1D-FB3C5BD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159-9CD6-44EE-A195-AC5456DD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C28-5148-4FEC-8474-96DA19D5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769-9B97-41B9-B600-01BD3130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FE1-E932-4B03-979E-318EA751C02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635-F74B-4DAA-A9DB-A1542B77315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13T12:44:40Z</dcterms:modified>
  <cp:revision>10</cp:revision>
  <dc:subject/>
  <dc:title>Agenda</dc:title>
</cp:coreProperties>
</file>